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9300-D5B4-44AA-B6FD-F5C598A788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608D-D5BA-4F2C-8812-6FA806D06F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3C9-6F67-4AAB-B86C-955A763D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863-846F-47D7-AB87-C3A63FB8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94F-A456-40F5-B239-5BA68B25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E77-4894-4954-BE1A-994DE120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7F3-5447-48ED-AFDE-DA8DC1D3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859-6FAF-4EB9-AC32-0138C15B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699-1B03-427F-B0CF-2EC955EB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9CA-EB6F-4259-9E45-DBA33F58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DDF-4647-40A0-A374-44E6E814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D4D-7EA9-468C-8FA4-542A1217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BF2-0185-4F10-A1C5-D3C718F2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E0F-2F2A-48F9-B1C2-6F03DAD8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C8CE-A382-44C6-A1EF-0414DD78F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blog.turmir.com/uploads/user_241/muzei-1/brit-2.jpg&amp;imgrefurl=http://blog.turmir.com/blog_11910.html&amp;usg=__2ksdbglqNC6-dOUx1v8fAeScWyI=&amp;h=378&amp;w=600&amp;sz=173&amp;hl=ru&amp;start=4&amp;tbnid=y0-Ev9zuYoTwmM:&amp;tbnh=85&amp;tbnw=135&amp;prev=/images?q=&#1084;&#1091;&#1079;&#1077;&#1081;+&#1074;+&#1051;&#1086;&#1085;&#1076;&#1086;&#1085;&#1077;&amp;gbv=2&amp;hl=ru&amp;sa=G&amp;newwindow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traumwerk.stanford.edu/archaeolog/banksy2.jpg&amp;imgrefurl=http://t-shell.livejournal.com/15879.html&amp;usg=__IB9Hfcg4LxSQxw1soXNMb3fNeMY=&amp;h=408&amp;w=600&amp;sz=62&amp;hl=ru&amp;start=24&amp;tbnid=GpeNdl8IsOp5AM:&amp;tbnh=92&amp;tbnw=135&amp;prev=/images?q=&#1082;&#1086;&#1083;&#1083;&#1077;&#1082;&#1094;&#1080;&#1103;+&#1041;&#1088;&#1080;&#1090;&#1072;&#1085;&#1089;&#1082;&#1086;&#1075;&#1086;+&#1084;&#1091;&#1079;&#1077;&#1103;+&#1074;+&#1051;&#1086;&#1085;&#1076;&#1086;&#1085;&#1077;&amp;gbv=2&amp;ndsp=18&amp;hl=ru&amp;sa=N&amp;start=18&amp;newwindow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ru/imgres?imgurl=http://www.stevequayle.com/GG.Images/giant.in.history.w.jpg&amp;imgrefurl=http://forum.exler.ru/arc/index.php?s=0&amp;showtopic=124943&amp;usg=__p1xnEvIKvj12A7YL1fZvxGjCSQc=&amp;h=681&amp;w=542&amp;sz=129&amp;hl=ru&amp;start=13&amp;tbnid=fBzLEQ_oAsW7IM:&amp;tbnh=139&amp;tbnw=111&amp;prev=/images?q=&#1075;&#1080;&#1075;&#1072;&#1085;&#1090;&#1089;&#1082;&#1080;&#1077;+&#1083;&#1102;&#1076;&#1080;&amp;gbv=2&amp;hl=ru&amp;newwindow=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ru/imgres?imgurl=http://sculpture.artyx.ru/books/item/f00/s00/z0000001/pic/000007.jpg&amp;imgrefurl=http://sculpture.artyx.ru/books/item/f00/s00/z0000001/st001.shtml&amp;usg=__mpCSchxYOHNdhVV7Dz1E4Tb8E5o=&amp;h=285&amp;w=593&amp;sz=64&amp;hl=ru&amp;start=5&amp;tbnid=5nGlwOUKLiqJkM:&amp;tbnh=65&amp;tbnw=135&amp;prev=/images?q=&#1084;&#1088;&#1072;&#1084;&#1086;&#1088;&#1085;&#1099;&#1077;+&#1095;&#1072;&#1089;&#1090;&#1080;+&#1075;&#1086;&#1088;&#1086;&#1076;&#1072;+&#1055;&#1072;&#1088;&#1092;&#1077;&#1085;&#1086;&#1085;&#1072;&amp;gbv=2&amp;hl=ru&amp;sa=G&amp;newwindow=1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ru/imgres?imgurl=http://pda.maybe.ru/p/360/359587/25.jpg&amp;imgrefurl=http://www.sci-lib.net/index.php?showtopic=6808&amp;usg=__i-sP1Ml0bh8QuPVYIUDeX-av8aE=&amp;h=650&amp;w=458&amp;sz=83&amp;hl=ru&amp;start=49&amp;tbnid=AzCEmidro8ACAM:&amp;tbnh=137&amp;tbnw=97&amp;prev=/images?q=&#1089;&#1090;&#1072;&#1090;&#1091;&#1080;+&#1075;&#1080;&#1075;&#1072;&#1085;&#1090;&#1089;&#1082;&#1080;&#1093;+&#1083;&#1102;&#1076;&#1077;&#1081;&amp;gbv=2&amp;ndsp=18&amp;hl=ru&amp;sa=N&amp;start=36&amp;newwindow=1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ru/imgres?imgurl=http://content.foto.mail.ru/mail/agathe56/_answers/i-125.jpg&amp;imgrefurl=http://otvet.mail.ru/question/21031470/&amp;usg=__yPtBvFn7J5ajHZDDGU1UZgyQcwU=&amp;h=231&amp;w=180&amp;sz=18&amp;hl=ru&amp;start=130&amp;tbnid=Vslhvnd3K2dqZM:&amp;tbnh=108&amp;tbnw=84&amp;prev=/images?q=&#1082;&#1086;&#1083;&#1083;&#1077;&#1082;&#1094;&#1080;&#1103;+&#1041;&#1088;&#1080;&#1090;&#1072;&#1085;&#1089;&#1082;&#1086;&#1075;&#1086;+&#1084;&#1091;&#1079;&#1077;&#1103;+&#1074;+&#1051;&#1086;&#1085;&#1076;&#1086;&#1085;&#1077;&amp;gbv=2&amp;ndsp=18&amp;hl=ru&amp;sa=N&amp;start=126&amp;newwindow=1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google.ru/imgres?imgurl=http://pansik.berdyansk.net/uploads/posts/2007-11/1196248601_sfinks2.jpg&amp;imgrefurl=http://pansik.berdyansk.net/2007/11/&amp;usg=__rQmafOUj0ICLS-fSglfdr_D3f4k=&amp;h=400&amp;w=360&amp;sz=15&amp;hl=ru&amp;start=21&amp;tbnid=BbWqHrXBjdOWuM:&amp;tbnh=124&amp;tbnw=112&amp;prev=/images?q=&#1095;&#1077;&#1083;&#1086;&#1074;&#1077;&#1082;+&#1089;&#1092;&#1080;&#1085;&#1082;&#1089;&amp;gbv=2&amp;ndsp=18&amp;hl=ru&amp;sa=N&amp;start=18&amp;newwindow=1" TargetMode="External"/><Relationship Id="rId12" Type="http://schemas.openxmlformats.org/officeDocument/2006/relationships/image" Target="../media/image11.jpeg"/><Relationship Id="rId13" Type="http://schemas.openxmlformats.org/officeDocument/2006/relationships/hyperlink" Target="http://images.google.ru/imgres?imgurl=http://www.star-sak.ru/uploads/1213876777_greece_akropol.jpg&amp;imgrefurl=http://www.star-sak.ru/index.php?do=static&amp;page=gree%F1e%20-%20excursion&amp;usg=__TnTchQIGNze3Mv9g1TyHBroT_xE=&amp;h=270&amp;w=360&amp;sz=16&amp;hl=ru&amp;start=11&amp;tbnid=xVsoPGsNqHUvHM:&amp;tbnh=91&amp;tbnw=121&amp;prev=/images?q=&#1084;&#1088;&#1072;&#1084;&#1086;&#1088;&#1085;&#1099;&#1077;+&#1095;&#1072;&#1089;&#1090;&#1080;+&#1075;&#1086;&#1088;&#1086;&#1076;&#1072;+&#1055;&#1072;&#1088;&#1092;&#1077;&#1085;&#1086;&#1085;&#1072;&amp;gbv=2&amp;hl=ru&amp;sa=G&amp;newwindow=1" TargetMode="External"/><Relationship Id="rId14" Type="http://schemas.openxmlformats.org/officeDocument/2006/relationships/image" Target="../media/image12.jpeg"/><Relationship Id="rId15" Type="http://schemas.openxmlformats.org/officeDocument/2006/relationships/hyperlink" Target="http://images.google.ru/imgres?imgurl=http://soft-best.ws/uploads/posts/2008-11/1226823379_arch.jpg&amp;imgrefurl=http://soft-best.ws/for_child/page/9/&amp;usg=__FVa3CBwM5cvQh7UYAanXdyyRwP4=&amp;h=339&amp;w=495&amp;sz=38&amp;hl=ru&amp;start=13&amp;tbnid=bf5k-L5eyoN82M:&amp;tbnh=89&amp;tbnw=130&amp;prev=/images?q=&#1084;&#1086;&#1076;&#1077;&#1083;&#1100;+&#1089;&#1072;&#1084;&#1086;&#1075;&#1086;+&#1055;&#1072;&#1088;&#1092;&#1077;&#1085;&#1086;&#1085;&#1072;&amp;gbv=2&amp;hl=ru&amp;newwindow=1" TargetMode="External"/><Relationship Id="rId16" Type="http://schemas.openxmlformats.org/officeDocument/2006/relationships/image" Target="../media/image13.jpeg"/><Relationship Id="rId17" Type="http://schemas.openxmlformats.org/officeDocument/2006/relationships/hyperlink" Target="http://images.google.ru/imgres?imgurl=http://dress-history.sage-way.info/img/phidi-442-435-horseman.jpg&amp;imgrefurl=http://dress-history.sage-way.info/ancient-clothes.html&amp;usg=__pBTNz_RcskKtmmyt1upwuoDdpwM=&amp;h=377&amp;w=500&amp;sz=47&amp;hl=ru&amp;start=7&amp;tbnid=oQqVZ-o2nPxDpM:&amp;tbnh=98&amp;tbnw=130&amp;prev=/images?q=&#1084;&#1088;&#1072;&#1084;&#1086;&#1088;&#1085;&#1099;&#1077;+&#1095;&#1072;&#1089;&#1090;&#1080;+&#1075;&#1086;&#1088;&#1086;&#1076;&#1072;+&#1055;&#1072;&#1088;&#1092;&#1077;&#1085;&#1086;&#1085;&#1072;&amp;gbv=2&amp;hl=ru&amp;sa=G&amp;newwindow=1" TargetMode="External"/><Relationship Id="rId18" Type="http://schemas.openxmlformats.org/officeDocument/2006/relationships/image" Target="../media/image14.jpeg"/><Relationship Id="rId19" Type="http://schemas.openxmlformats.org/officeDocument/2006/relationships/hyperlink" Target="http://images.google.ru/imgres?imgurl=http://clongorey.com/wp-content/uploads/2009/09/&#1086;&#1089;&#1090;&#1088;&#1086;&#1074;-&#1055;&#1072;&#1089;&#1093;&#1080;-300x230.jpg&amp;imgrefurl=http://uaturist.ru/&amp;usg=__RldubIblDNrheA7GJCquRc2-6HI=&amp;h=230&amp;w=300&amp;sz=33&amp;hl=ru&amp;start=53&amp;tbnid=vIQsnM9hN7hpwM:&amp;tbnh=89&amp;tbnw=116&amp;prev=/images?q=&#1089;&#1090;&#1072;&#1090;&#1091;&#1080;+&#1075;&#1080;&#1075;&#1072;&#1085;&#1090;&#1089;&#1082;&#1080;&#1093;+&#1083;&#1102;&#1076;&#1077;&#1081;&amp;gbv=2&amp;ndsp=18&amp;hl=ru&amp;sa=N&amp;start=36&amp;newwindow=1" TargetMode="External"/><Relationship Id="rId20" Type="http://schemas.openxmlformats.org/officeDocument/2006/relationships/image" Target="../media/image15.jpeg"/><Relationship Id="rId21" Type="http://schemas.openxmlformats.org/officeDocument/2006/relationships/hyperlink" Target="http://images.google.ru/imgres?imgurl=http://www.photoshare.ru/data/37/37227/1/3w1h5l-fgf.jpg&amp;imgrefurl=http://www.photoshare.ru/photo2858870.html&amp;usg=__CDCTQYnJqvbTlTZHqTTDH9xx5Ik=&amp;h=286&amp;w=512&amp;sz=44&amp;hl=ru&amp;start=1&amp;tbnid=XT5mBGtRim7bBM:&amp;tbnh=73&amp;tbnw=131&amp;prev=/images?q=&#1075;&#1080;&#1075;&#1072;&#1085;&#1090;&#1089;&#1082;&#1080;&#1077;+&#1083;&#1102;&#1076;&#1080;&amp;gbv=2&amp;hl=ru&amp;newwindow=1" TargetMode="External"/><Relationship Id="rId22" Type="http://schemas.openxmlformats.org/officeDocument/2006/relationships/image" Target="../media/image16.jpeg"/><Relationship Id="rId23" Type="http://schemas.openxmlformats.org/officeDocument/2006/relationships/hyperlink" Target="http://images.google.ru/imgres?imgurl=http://img-fotki.yandex.ru/get/8/b0673498.5/0_4457_252e012a_L.jpg&amp;imgrefurl=http://fotki.yandex.ru/tags/&#1089;&#1082;&#1077;&#1083;&#1077;&#1090;/users/b0673498/view/17495?how=week&amp;page=1&amp;usg=__zB8PnXDx-Mab8PwkW-HJL2EsVHU=&amp;h=375&amp;w=500&amp;sz=56&amp;hl=ru&amp;start=168&amp;tbnid=bSBs4fgBRUe9lM:&amp;tbnh=98&amp;tbnw=130&amp;prev=/images?q=&#1082;&#1086;&#1083;&#1083;&#1077;&#1082;&#1094;&#1080;&#1103;+&#1041;&#1088;&#1080;&#1090;&#1072;&#1085;&#1089;&#1082;&#1086;&#1075;&#1086;+&#1084;&#1091;&#1079;&#1077;&#1103;+&#1074;+&#1051;&#1086;&#1085;&#1076;&#1086;&#1085;&#1077;&amp;gbv=2&amp;ndsp=18&amp;hl=ru&amp;sa=N&amp;start=162&amp;newwindow=1" TargetMode="External"/><Relationship Id="rId24" Type="http://schemas.openxmlformats.org/officeDocument/2006/relationships/image" Target="../media/image17.jpeg"/><Relationship Id="rId25" Type="http://schemas.openxmlformats.org/officeDocument/2006/relationships/hyperlink" Target="http://images.google.ru/imgres?imgurl=http://venividi.ru/files/img/9247/299.jpg&amp;imgrefurl=http://venividi.ru/node/10833&amp;usg=__Ad6tTwxKGbSVeiZZ7NKNmZZTJYA=&amp;h=400&amp;w=600&amp;sz=95&amp;hl=ru&amp;start=222&amp;tbnid=GEfnk9U1h0qsqM:&amp;tbnh=90&amp;tbnw=135&amp;prev=/images?q=&#1082;&#1086;&#1083;&#1083;&#1077;&#1082;&#1094;&#1080;&#1103;+&#1041;&#1088;&#1080;&#1090;&#1072;&#1085;&#1089;&#1082;&#1086;&#1075;&#1086;+&#1084;&#1091;&#1079;&#1077;&#1103;+&#1074;+&#1051;&#1086;&#1085;&#1076;&#1086;&#1085;&#1077;&amp;gbv=2&amp;ndsp=18&amp;hl=ru&amp;sa=N&amp;start=216&amp;newwindow=1" TargetMode="External"/><Relationship Id="rId26" Type="http://schemas.openxmlformats.org/officeDocument/2006/relationships/image" Target="../media/image18.jpeg"/><Relationship Id="rId27" Type="http://schemas.openxmlformats.org/officeDocument/2006/relationships/image" Target="../media/image19.jpeg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Museum of Lond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British Muse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44290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Natural History Museu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400640" cy="4983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re did Misha and Robin go to sleep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id they see in the Natural History Museum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o organises sleepov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do they organise sleepover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 children do in the evening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 children like sleepov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комп1\Мои документы\Мои рисунки\bmnh8[1].jpg"/>
          <p:cNvPicPr/>
          <p:nvPr/>
        </p:nvPicPr>
        <p:blipFill>
          <a:blip r:embed="rId1"/>
          <a:stretch/>
        </p:blipFill>
        <p:spPr>
          <a:xfrm>
            <a:off x="5000760" y="214200"/>
            <a:ext cx="3852720" cy="6429600"/>
          </a:xfrm>
          <a:prstGeom prst="rect">
            <a:avLst/>
          </a:prstGeom>
          <a:ln w="25560">
            <a:solidFill>
              <a:srgbClr val="357d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New vocabulary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916000" y="-360"/>
            <a:ext cx="57704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most famous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амый знаменитый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['næ</a:t>
            </a:r>
            <a:r>
              <a:rPr b="0" lang="el-GR" sz="17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el]–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циональный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was founded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был основан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ontains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[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n´tein]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 содержаться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most important collections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самые значительные коллек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National Library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laibreri]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национальная библиотека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Museum of History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музей истори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life of ancient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ein∫ent]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people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жизнь древних людей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official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e´fi∫el]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name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официальное название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marble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ma:bl]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parts of the Greek Parthenon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мраморные предметы из Греческого Парфенона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model of the Partheno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pa: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Ѳ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on]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itself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модель самого Парфенона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statues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stætju:]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of men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статуи людей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phinxes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sfinksiz]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сфинксы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gigantic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d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i'gæntik]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 statues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гигантские стату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Egypti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i'd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∫n]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mummies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m</a:t>
            </a:r>
            <a:r>
              <a:rPr b="0" lang="el-GR" sz="17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i]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египетские мум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manuscripts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['mænjuskript]–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анускрипты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http://t0.gstatic.com/images?q=tbn:y0-Ev9zuYoTwmM:http://blog.turmir.com/uploads/user_241/muzei-1/brit-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714680"/>
            <a:ext cx="2342880" cy="3000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Fill in the missing letters and read the wor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…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…nt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ati…nal Libra…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…seum of Hi…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…icial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…le p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re…k Part…en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hin…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g…ntic stat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g…ptian mumm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…scrip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комп1\Мои документы\Мои рисунки\british_museum_11[1].jpg"/>
          <p:cNvPicPr/>
          <p:nvPr/>
        </p:nvPicPr>
        <p:blipFill>
          <a:blip r:embed="rId1"/>
          <a:stretch/>
        </p:blipFill>
        <p:spPr>
          <a:xfrm>
            <a:off x="4645080" y="2071800"/>
            <a:ext cx="4141800" cy="4000320"/>
          </a:xfrm>
          <a:prstGeom prst="rect">
            <a:avLst/>
          </a:prstGeom>
          <a:ln w="25560">
            <a:solidFill>
              <a:srgbClr val="385d8a"/>
            </a:solidFill>
            <a:miter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300816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eck yoursel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Текст 11"/>
          <p:cNvGrpSpPr/>
          <p:nvPr/>
        </p:nvGrpSpPr>
        <p:grpSpPr>
          <a:xfrm>
            <a:off x="165240" y="944640"/>
            <a:ext cx="3181320" cy="5559480"/>
            <a:chOff x="165240" y="944640"/>
            <a:chExt cx="3181320" cy="5559480"/>
          </a:xfrm>
        </p:grpSpPr>
        <p:pic>
          <p:nvPicPr>
            <p:cNvPr id="64" name="Текст 11" descr=""/>
            <p:cNvPicPr/>
            <p:nvPr/>
          </p:nvPicPr>
          <p:blipFill>
            <a:blip r:embed="rId1"/>
            <a:stretch/>
          </p:blipFill>
          <p:spPr>
            <a:xfrm>
              <a:off x="165240" y="944640"/>
              <a:ext cx="3181320" cy="55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85840" y="1000080"/>
              <a:ext cx="3008160" cy="46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Nation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Contain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National Librar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Museum of Histor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Official na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Marble parts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Greek Parthen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Sphinx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Gigantic statues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Egyptian mummi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Manuscripts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34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34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34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Picture 2" descr="C:\Documents and Settings\комп1\Мои документы\Мои рисунки\212023509[1].jpg"/>
          <p:cNvPicPr/>
          <p:nvPr/>
        </p:nvPicPr>
        <p:blipFill>
          <a:blip r:embed="rId2"/>
          <a:stretch/>
        </p:blipFill>
        <p:spPr>
          <a:xfrm>
            <a:off x="3575160" y="793800"/>
            <a:ext cx="5111640" cy="4811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00816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Match the words and the pictures.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ble parts of the Greek Parthenon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del of the Parthenon itself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statues of men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nuscript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hinx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gantic statu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gyptian mumm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http://t1.gstatic.com/images?q=tbn:GpeNdl8IsOp5AM:http://traumwerk.stanford.edu/archaeolog/banksy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71880" y="285840"/>
            <a:ext cx="1214280" cy="1000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http://t3.gstatic.com/images?q=tbn:fBzLEQ_oAsW7IM:http://www.stevequayle.com/GG.Images/giant.in.history.w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0800" y="285840"/>
            <a:ext cx="1060200" cy="1323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http://t1.gstatic.com/images?q=tbn:5nGlwOUKLiqJkM:http://sculpture.artyx.ru/books/item/f00/s00/z0000001/pic/00000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72200" y="642960"/>
            <a:ext cx="1714680" cy="785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http://t0.gstatic.com/images?q=tbn:AzCEmidro8ACAM:http://pda.maybe.ru/p/360/359587/25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71960" y="1285920"/>
            <a:ext cx="1065240" cy="1307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http://t1.gstatic.com/images?q=tbn:Vslhvnd3K2dqZM:http://content.foto.mail.ru/mail/agathe56/_answers/i-125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00800" y="178596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0" descr="http://t2.gstatic.com/images?q=tbn:BbWqHrXBjdOWuM:http://pansik.berdyansk.net/uploads/posts/2007-11/1196248601_sfinks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86760" y="1714680"/>
            <a:ext cx="1068120" cy="1179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1" descr="http://t0.gstatic.com/images?q=tbn:xVsoPGsNqHUvHM:http://www.star-sak.ru/uploads/1213876777_greece_akropol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857680" y="2786040"/>
            <a:ext cx="1576080" cy="10746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" descr="http://t0.gstatic.com/images?q=tbn:bf5k-L5eyoN82M:http://soft-best.ws/uploads/posts/2008-11/1226823379_arch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643280" y="3214800"/>
            <a:ext cx="1714680" cy="12142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3" descr="http://t1.gstatic.com/images?q=tbn:oQqVZ-o2nPxDpM:http://dress-history.sage-way.info/img/phidi-442-435-horseman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3429000"/>
            <a:ext cx="2071800" cy="15717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4" descr="http://t0.gstatic.com/images?q=tbn:vIQsnM9hN7hpwM:http://clongorey.com/wp-content/uploads/2009/09/%D0%BE%D1%81%D1%82%D1%80%D0%BE%D0%B2-%D0%9F%D0%B0%D1%81%D1%85%D0%B8-300x230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857680" y="421488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5" descr="http://t2.gstatic.com/images?q=tbn:XT5mBGtRim7bBM:http://www.photoshare.ru/data/37/37227/1/3w1h5l-fgf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714920" y="5072040"/>
            <a:ext cx="1928880" cy="977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6" descr="http://t0.gstatic.com/images?q=tbn:bSBs4fgBRUe9lM:http://img-fotki.yandex.ru/get/8/b0673498.5/0_4457_252e012a_L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929280" y="5572080"/>
            <a:ext cx="1928880" cy="9334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7" descr="http://t3.gstatic.com/images?q=tbn:GEfnk9U1h0qsqM:http://venividi.ru/files/img/9247/299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95280" y="4292640"/>
            <a:ext cx="1857240" cy="15717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8" descr="http://t2.gstatic.com/images?q=tbn:luwWqEwC17wa-M:http://www.onelegend.ru/images/sphinx.jpg"/>
          <p:cNvPicPr/>
          <p:nvPr/>
        </p:nvPicPr>
        <p:blipFill>
          <a:blip r:embed="rId27"/>
          <a:stretch/>
        </p:blipFill>
        <p:spPr>
          <a:xfrm>
            <a:off x="1857240" y="5429160"/>
            <a:ext cx="2000520" cy="1428840"/>
          </a:xfrm>
          <a:prstGeom prst="rect">
            <a:avLst/>
          </a:prstGeom>
          <a:ln w="0">
            <a:noFill/>
          </a:ln>
        </p:spPr>
      </p:pic>
      <p:sp>
        <p:nvSpPr>
          <p:cNvPr id="83" name="TextBox 20"/>
          <p:cNvSpPr/>
          <p:nvPr/>
        </p:nvSpPr>
        <p:spPr>
          <a:xfrm>
            <a:off x="3861000" y="23572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5289840" y="121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6643800" y="1071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5214960" y="264312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6786720" y="26431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6"/>
          <p:cNvSpPr/>
          <p:nvPr/>
        </p:nvSpPr>
        <p:spPr>
          <a:xfrm>
            <a:off x="4286160" y="4071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7"/>
          <p:cNvSpPr/>
          <p:nvPr/>
        </p:nvSpPr>
        <p:spPr>
          <a:xfrm>
            <a:off x="6357960" y="4643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145440" y="521496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9"/>
          <p:cNvSpPr/>
          <p:nvPr/>
        </p:nvSpPr>
        <p:spPr>
          <a:xfrm>
            <a:off x="2574720" y="500076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0"/>
          <p:cNvSpPr/>
          <p:nvPr/>
        </p:nvSpPr>
        <p:spPr>
          <a:xfrm>
            <a:off x="4286160" y="57150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1"/>
          <p:cNvSpPr/>
          <p:nvPr/>
        </p:nvSpPr>
        <p:spPr>
          <a:xfrm>
            <a:off x="1646640" y="628668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6719040" y="62866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440" y="115920"/>
            <a:ext cx="7172280" cy="682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useum of Lond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757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st famous national museum in London is the British Museu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ritish Museum is one of th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ld – famous museums. It was founded in 1753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ritish Museum contains the most important collections in Brita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official name is the National Library and Museum of Histor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is museum you can learn about the life of ancient peop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as the marble parts of the Greek Parthenon, model of the Parthenon itself, the statues of men and horses, sphinxes, gigantic statues and Egyptian mummi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ational Library  contains one of the richest collections of books and manuscripts in the world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" dur="indefinite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Museum of Lond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428720" y="272520"/>
            <a:ext cx="42577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national museum is the most famou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was it founded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is its official nam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can you learn in the British Museu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collections are there in the British Museu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does the National Library contain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richard-seaman.com/Travel/UK/London/Highlights/BritishMuseumFront.jpg"/>
          <p:cNvPicPr/>
          <p:nvPr/>
        </p:nvPicPr>
        <p:blipFill>
          <a:blip r:embed="rId1"/>
          <a:stretch/>
        </p:blipFill>
        <p:spPr>
          <a:xfrm>
            <a:off x="428760" y="1857240"/>
            <a:ext cx="3905280" cy="2928960"/>
          </a:xfrm>
          <a:prstGeom prst="rect">
            <a:avLst/>
          </a:prstGeom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Fill in the gap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famous …  … in London is the British Muse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tish Museum is one of the world – famous museums. It was … in 1753. The British Museum … the most important collections in Britain. Its official … is the National Library and Museum of Histo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museum you … learn about the … of ancient …  such as the marble … of the Greek Parthenon, model of the Parthenon …, the statues of … and horses, sphinxes, gigantic … and Egyptian mumm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tional Library  contains one of the … collections of books and … in the world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5:09:05Z</dcterms:created>
  <dc:creator>Admin</dc:creator>
  <dc:description/>
  <dc:language>en-US</dc:language>
  <cp:lastModifiedBy>Виктория Олеговна</cp:lastModifiedBy>
  <dcterms:modified xsi:type="dcterms:W3CDTF">2011-08-08T18:35:08Z</dcterms:modified>
  <cp:revision>63</cp:revision>
  <dc:subject/>
  <dc:title>Museums of London</dc:title>
</cp:coreProperties>
</file>